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FC0-7972-4318-B11C-03318FA8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4CE-2CB4-47E5-83CA-5B24859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281-39B7-41D6-BB13-DD2DF360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B46-CB61-4C86-B5FD-631B13A7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B9FE-EA08-41BD-8FCA-46C22DFD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5A87-5628-4573-91E9-608B3171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7CE-3CA0-4735-9F52-7194040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4701-EBF3-487C-9DBD-4820AEF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3671-6506-4AF4-9D35-A432BE8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4284-212E-4524-B220-48D16543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7438-E890-4981-9E8C-DA37235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536-2F20-4A17-B1C8-4AFE517C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D029-7E18-4982-B331-4A161B5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E72-638D-4C74-B947-A1E5ACEE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37E5-04B8-400F-8717-CB7B90A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D6D9-E381-4BB3-B106-FF57C602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D3C7-ADD0-4A73-96D0-1F1C581F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428E-A7B8-473F-90E2-0345D0EB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34B8-AAAD-4856-A204-F5A16F7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DC7C-B60E-417A-B60C-7FF149B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F3AD-127F-4B24-9396-EDA2BB06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6874-EE2A-4967-AADB-D12BA00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525-1906-41E0-95A9-98ED0342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5E62-D36B-474E-A8B9-483E9145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5274-D904-4580-8E31-9F7BC319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30E9-719E-412D-9C91-01A1154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86C6-5996-421F-BAA7-5EE7B2B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F170-4F10-4954-BD05-4D78DC5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8773-7F76-4397-B79F-23E485E0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3650-C298-4A00-AEC0-36C8F102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135A-8DDE-418E-A959-050F8A2F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6993-5459-4A21-93B7-2462199B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DEE7-926D-4C37-ABA1-64E01032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326-F978-4ABC-84CA-DB76D3F3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6871-07FC-4F6C-8949-6AA28D2B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EA38-5631-499A-9A49-0BC19AC3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135E-366A-4180-81D2-F91EB82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AA34-4984-471C-A755-8E5E0E7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854E-5EFB-4C99-9189-BD3A5DC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C789-3774-47BA-8AB7-93E44FF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6857-F79C-40D6-BC13-724BC7D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A81F-0DB2-4D8C-BF95-EFC49FD8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09374-85D3-4C94-82AD-0DB560CF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B300-2B43-4E97-939F-522D064E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2EE-BAB7-40EC-8417-E398975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A29D-AEB4-4326-BBCF-A4B575C4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ABE4-5066-4869-B653-0BCB871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43E5-4D03-4F11-8B1C-9C63DBA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8DC5-E9E1-4083-BA2D-60903F1B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F4B9-59CA-4CD0-96FB-9D83CF8E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17B0-E88A-4D35-B780-777771C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40FA-33CE-4498-96C3-526E6EF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A4C3-C25D-4122-8FB3-E6D7C808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8BB3-24CF-48E1-A642-A3EB5DF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CE58A-3F89-40B8-8824-B09F081E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CDE-CA51-418A-845F-6AA0001B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4DCD-14EC-40A7-BC40-7866458C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6968F-CFE6-4AD6-8468-432D3265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DECFF-6B32-4566-AF63-D2A4932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EE5CD-42A7-4477-89CC-6277E205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A1B81-A7D1-490B-890A-43620896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7634E-9816-47C0-B64D-08D52D22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34B89-AA51-4438-8290-384DF869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61058-48AD-4B97-8FDF-53FC6BF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0543F-BCE6-4BED-ABE5-23C16BD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E9698-B3D1-4085-8CC0-B5D9409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4A4-5651-4880-9D2E-1B8820F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0FD90-1773-4706-B969-0FA4F503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3E30B-8BEF-4BB9-94EE-3BE2FD88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4C65E-E964-47C5-AC73-CBA223C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05E-B3FC-4602-900F-12F94E4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35F-3330-4E30-ADF3-6AB21AD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A5F5-F58C-4FC5-94E2-7617B911C7A5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564-2E11-44B4-9324-8CBEE1893819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9AC-E4AB-4FA2-A306-A029A0F17112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85E5-A37B-46ED-B272-93F06B1F23E9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1C66-E3C7-481B-BCCB-30FC037BFED4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BB8-A4A4-4EEC-829E-4FECB14384A0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4FE4-DDDA-43E3-AE20-596D27EB9739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4D0-025B-4A9F-A026-BAE2DBACF06D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0B4A-21AA-447A-A828-6296BE9079B2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2272-882F-4FFE-8800-7FBF4AA6698F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9E00-659F-4E47-A63B-C23B0C76D4D0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51F-B6AB-4231-BB4F-5DA972AB10AB}" type="datetime"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96464"/>
                </a:solidFill>
                <a:latin typeface="Perpetua"/>
              </a:rPr>
              <a:t>Dana Diváková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96464"/>
                </a:solidFill>
                <a:latin typeface="Perpetua"/>
              </a:rPr>
              <a:t>29. 9.2016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597D-DEC0-46CD-81A9-C3A2F726DB6F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C3F0-A446-4910-96D4-5A7D6508C7C7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Franklin Gothic Book"/>
              </a:rPr>
              <a:t>ÚVOD DO KOMUNITNÍHO PLÁNOVÁNÍ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0384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32280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0" descr="Obrázek1"/>
          <p:cNvPicPr/>
          <p:nvPr/>
        </p:nvPicPr>
        <p:blipFill>
          <a:blip r:embed="rId1"/>
          <a:stretch/>
        </p:blipFill>
        <p:spPr>
          <a:xfrm>
            <a:off x="7197840" y="11592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munitní plánování sociálních služeb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CCE-59D5-4EE6-9FC6-12657C2B40F7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5C07-097D-4FC1-AE2D-DF242840838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Perpetua"/>
              </a:rPr>
              <a:t>Plánujeme pro veřejno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erpetua"/>
              </a:rPr>
              <a:t>Každý občan je potenciálním uživatelem sociálních služeb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erpetua"/>
              </a:rPr>
              <a:t>Veřejnost, nezapojená do přímého zpracování komunitního plánu, se podílí na připomínkování v rámci konzultačního procesu a v prvotních zjištěních – anketa, dotazníky apod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1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96464"/>
                </a:solidFill>
                <a:latin typeface="Franklin Gothic Book"/>
              </a:rPr>
              <a:t>Přínosy komunitního plánování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D54-732D-421F-B862-4660A5D5E454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CF40-385A-433D-9A2B-4AC23D96D9C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Systém sociálních služeb odpovídá zjištěným potřebám a je schopen průběžně reagovat na změn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Vytvoření systému služeb podle existujících (a předpokládaných) potřeb, v odpovídající kvalitě a v souladu s místními specifik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růběžný monito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ktualiza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Úprava a reviz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6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96464"/>
                </a:solidFill>
                <a:latin typeface="Franklin Gothic Book"/>
              </a:rPr>
              <a:t>Přínosy komunitního plánování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EC5-2AD5-4F03-9C40-1E5322B46BDE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6B0-703B-48ED-848B-1B8DBAAD5E05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Efektivní využití finančních prostředků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vyšování podílu občanů na rozhodovacím proces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ystém sociálních služeb je průhledný a srozumitelný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Je známo jasné zadán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Jasné výstup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ilný a zkušený manag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1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96464"/>
                </a:solidFill>
                <a:latin typeface="Franklin Gothic Book"/>
              </a:rPr>
              <a:t>Postup pro zpracování K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B03-42F2-4901-B12E-2941CF040968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6BA-013F-426B-9407-07682C91602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Rozhodnutí zastupitelstva (sněmu) o zahájení K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pracování a schválení Základní listin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Vytvoření řídící skupiny (triád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ituační analý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Místní demografická analý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nalýza poskytovatelů služe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nalýza potřeb občanů v dané oblast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Vytvoření partnerské koalice (triád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pracování návrhové části K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V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oslání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SWOT analýza v rámci P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49840" indent="-48528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Zpracování priorit, opatření, akčního plán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Analýza zdrojů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řipomínkové řízen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Schválení plán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01440" indent="-4852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80640" y="40464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96464"/>
                </a:solidFill>
                <a:latin typeface="Franklin Gothic Book"/>
              </a:rPr>
              <a:t>Partnerská koali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C548-6686-40C8-8380-79B57CD3A273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7EC-E07F-412F-BCE6-A58E01B9454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Definice Koalic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Dává širší rámec přípravě K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Monitoruje a připomínkuje jeho přípravu a realizac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dává svá doporučen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ajistí větší sounáležitost všech zúčastněných s výsledk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Je platformou neformálních setkání všech aktérů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dporuje a rozvíjí mezisektorové partnerství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0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0640" y="40464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96464"/>
                </a:solidFill>
                <a:latin typeface="Franklin Gothic Book"/>
              </a:rPr>
              <a:t>Organizační schém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8C11-DF2B-4CCF-BE3D-A1DCBB55A8C1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6887-24E7-4402-85DF-EDAFD873986F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Zástupný symbol pro obsah 1" descr=""/>
          <p:cNvPicPr/>
          <p:nvPr/>
        </p:nvPicPr>
        <p:blipFill>
          <a:blip r:embed="rId1"/>
          <a:stretch/>
        </p:blipFill>
        <p:spPr>
          <a:xfrm>
            <a:off x="390600" y="1700280"/>
            <a:ext cx="8240760" cy="3882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brázek1"/>
          <p:cNvPicPr/>
          <p:nvPr/>
        </p:nvPicPr>
        <p:blipFill>
          <a:blip r:embed="rId2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5280" y="525600"/>
            <a:ext cx="8163000" cy="90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nzultační proces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0B1A-4C70-4CB4-8E38-A4F2EEE49D6D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B1E7-F030-4104-AA16-1D4BE208A63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úvodní fází K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sociálních službách v daném místě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získat zpětnou vazbu od občanů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účastnících proces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dílčích výstupec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371600" indent="-4572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</a:rPr>
              <a:t>informovat o závěrečných výstupec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0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63000" cy="54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96464"/>
                </a:solidFill>
                <a:latin typeface="Franklin Gothic Book"/>
              </a:rPr>
              <a:t>Návrh postupu při zpracování KP v krocích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DDC6-D35E-4EEF-AB53-583E3EDF35BC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7DA-E99B-4D1E-B95D-3C41C020E2B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Rozhodnutí zastupitelstva o zahájení KP sociálních služeb     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Zpracování Zakládací listin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Jmenování koordinátora KP a garanta KP za zadavate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Jmenování Řídícího výboru/skupiny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Výběr členů pracovních skupin/partnerské koalic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Oslovení členů pracovních skup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Svolání první schůzky pracovních skupin, vysvětlení principu KP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Zpracování jednacího řádu, pravidel diskuze společně se skupino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Situační analýz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Sociodemografická analýz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Analýza potřeb v oblasti sociálních služ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Analýza zdrojů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Zpracování SWOT se znalostí výstupů ze situační analýz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5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63000" cy="54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96464"/>
                </a:solidFill>
                <a:latin typeface="Franklin Gothic Book"/>
              </a:rPr>
              <a:t>Návrh postupu při zpracování KP v krocích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3C7-DAF0-4E81-9F6B-A94F39D219ED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BF7D-E20E-43E5-AA20-852F69D81FE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528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ávrh priorit a opatření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Rozpracování priorit a opatření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Zpracování dokument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Konzultace dokumentu veřejností včetně zastupitelst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Schválení KP zastupitelstvem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Zpracování akčního plán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Realizace KP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Monitorování a vyhodnocování KP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Aktualizace plán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63000" cy="54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96464"/>
                </a:solidFill>
                <a:latin typeface="Franklin Gothic Book"/>
              </a:rPr>
              <a:t>Příklady z prax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2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A48-273B-43AB-ABFD-1168066392E6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D1E-E9A1-4FED-B10C-C625DCA0BD90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http://www.kravare.cz/_files/kravare-f3f54556ef98a7dc892c422199adde74/dokumentstrednedobyplanrozvojesssvazkuobcimikroregionuhlucinskozapad_ver2.pdf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http://www.mufrenstat.cz/VismoOnline_ActionScripts/File.ashx?id_org=3471&amp;id_dokumenty=20275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http://www.rohov.cz/e_download.php?file=data/editor/344cs_1.pdf&amp;original=St%C5%99edn%C4%9Bdob%C3%BD+pl%C3%A1n+rozvoje+soci%C3%A1ln%C3%ADch+slu%C5%BEeb+OBEC+ROHOV.pdf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4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93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Franklin Gothic Book"/>
              </a:rPr>
              <a:t>Obsah prezent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12B-5920-4D49-91ED-7DA4F6D82EA2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D32F-4140-43F8-93DF-204FB2297FD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2349360"/>
            <a:ext cx="77724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Perpetua"/>
              </a:rPr>
              <a:t>Komunitní plánování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Co je komunitní plánování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Co je komunitní plánování sociálních služ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Přínosy komunitního plánování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Kdy může být KP úspěšný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Postup pro zpracování K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Příprava strategické části KP sociálních služeb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Akční plá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Informační kampaň a konzultační proc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Monitorování,  vyhodnocování a aktualizace plán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Picture 3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59-liny"/>
          <p:cNvPicPr/>
          <p:nvPr/>
        </p:nvPicPr>
        <p:blipFill>
          <a:blip r:embed="rId1"/>
          <a:stretch/>
        </p:blipFill>
        <p:spPr>
          <a:xfrm>
            <a:off x="2414520" y="457200"/>
            <a:ext cx="4314960" cy="5410080"/>
          </a:xfrm>
          <a:prstGeom prst="rect">
            <a:avLst/>
          </a:prstGeom>
          <a:ln w="0">
            <a:noFill/>
          </a:ln>
        </p:spPr>
      </p:pic>
      <p:sp>
        <p:nvSpPr>
          <p:cNvPr id="377" name="Zástupný symbol pro číslo snímku 3"/>
          <p:cNvSpPr/>
          <p:nvPr/>
        </p:nvSpPr>
        <p:spPr>
          <a:xfrm>
            <a:off x="6553080" y="6248520"/>
            <a:ext cx="213372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3F2B-1356-42B6-80F9-A6D0C9C62A3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C7D-1D39-493E-AACB-90FA94908BAA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Krásný d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dana.divakova@ikor.c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96464"/>
                </a:solidFill>
                <a:latin typeface="Perpetua"/>
              </a:rPr>
              <a:t>www.ikor.c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F4B-BF99-4A9A-A751-68700D70EAEA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CDB-A333-4ED4-8DA7-4B27481A5FC0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Franklin Gothic Book"/>
              </a:rPr>
              <a:t>Děkuji za pozornos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261-5AA1-47A3-9347-ECCF444BA4B9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87F0-4643-48C0-8A6E-F4AE2EB71A8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900" spc="-1" strike="noStrike">
                <a:solidFill>
                  <a:srgbClr val="000000"/>
                </a:solidFill>
                <a:latin typeface="Perpetua"/>
              </a:rPr>
              <a:t>1998</a:t>
            </a:r>
            <a:endParaRPr b="0" lang="en-US" sz="19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9C1-AC75-4A07-98BB-E5892EA80317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2809-49F2-426E-8F54-2F650A35883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900" spc="-1" strike="noStrike">
                <a:solidFill>
                  <a:srgbClr val="000000"/>
                </a:solidFill>
                <a:latin typeface="Perpetua"/>
              </a:rPr>
              <a:t>2006</a:t>
            </a:r>
            <a:endParaRPr b="0" lang="en-US" sz="19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Komunitní plánování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DBE5-08C7-43A8-81B4-EAC1CED7244C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77D3-2914-4649-9F85-8D29156C0C2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Zástupný symbol pro obsah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297" name="Obrázek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552840" cy="2663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298" name="Obrázek 5" descr=""/>
          <p:cNvPicPr/>
          <p:nvPr/>
        </p:nvPicPr>
        <p:blipFill>
          <a:blip r:embed="rId3"/>
          <a:stretch/>
        </p:blipFill>
        <p:spPr>
          <a:xfrm>
            <a:off x="755640" y="235116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299" name="Obrázek 6" descr=""/>
          <p:cNvPicPr/>
          <p:nvPr/>
        </p:nvPicPr>
        <p:blipFill>
          <a:blip r:embed="rId4"/>
          <a:stretch/>
        </p:blipFill>
        <p:spPr>
          <a:xfrm>
            <a:off x="755640" y="1503360"/>
            <a:ext cx="8209080" cy="4618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8000"/>
              </a:srgbClr>
            </a:outerShdw>
          </a:effectLst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1" lang="cs-CZ" sz="4000" spc="-1" strike="noStrike">
                <a:solidFill>
                  <a:srgbClr val="696464"/>
                </a:solidFill>
                <a:latin typeface="Franklin Gothic Book"/>
              </a:rPr>
              <a:t>Komunitní plánování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22B7-E397-441A-B687-5E99C3813AAA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D1D-A1B8-4405-9062-0FD1006A49F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Umožňuje zpracovávat rozvojové materiály pro různé oblasti veřejného života na úrovni obce, regionu, kraj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00280" indent="-343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lánování se širokým zapojením veřejnost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00280" indent="-343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Kromě KP sociálních služeb je tento princip užíván také např.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zpracování rozvojových strategií obcí, měst a mikroregion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zpracování a realizaci strategií MA 2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plánování a realizaci projektů Zdravé měs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plánování a realizaci dalších komunitních projekt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57480" indent="-343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Při přípravě MA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4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munitní plánování sociálních služeb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9F53-6E81-4180-B1D0-DD404034CD3F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5A00-1F59-4500-93D7-BD4A4CFAE057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Komunitní plánování sociálních služeb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je metoda, kterou lze na úrovni obcí, regionů nebo krajů plánovat sociální služby tak, aby odpovídaly místním specifikům i potřebám jednotlivých občan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otevřený proces zjišťování potřeb a zdrojů a hledání nejlepších řešení v oblasti sociálních služe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Charakteristickými znaky KP je důraz kladený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a zapojování všech, kterých se zpracovávaná oblast týká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a dialog a vyjednávání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Na dosažení výsledků, které jsou přijaty a podporovány většinou účastníků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9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8600" y="326880"/>
            <a:ext cx="8163000" cy="5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16F-E04E-4300-8F7D-3E175089689C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91A1-8DCC-42EE-855D-78E01C9DFAE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79560" y="1427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dstatou komunitního plánování sociálních služeb /a komunitního plánování obecně/ je partnerství. V případě KP SS pak  mezi třemi stranam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Perpetua"/>
              </a:rPr>
              <a:t>Zadavatel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Perpetua"/>
              </a:rPr>
              <a:t>Poskytovatel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Perpetua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Triád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38080" indent="-380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4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1587240" y="46980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munitní plánování sociálních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Rovnoramenný trojúhelník 1"/>
          <p:cNvGrpSpPr/>
          <p:nvPr/>
        </p:nvGrpSpPr>
        <p:grpSpPr>
          <a:xfrm>
            <a:off x="3865680" y="3260880"/>
            <a:ext cx="2181240" cy="1682640"/>
            <a:chOff x="3865680" y="3260880"/>
            <a:chExt cx="2181240" cy="1682640"/>
          </a:xfrm>
        </p:grpSpPr>
        <p:pic>
          <p:nvPicPr>
            <p:cNvPr id="317" name="Rovnoramenný trojúhelník 1" descr=""/>
            <p:cNvPicPr/>
            <p:nvPr/>
          </p:nvPicPr>
          <p:blipFill>
            <a:blip r:embed="rId2"/>
            <a:stretch/>
          </p:blipFill>
          <p:spPr>
            <a:xfrm>
              <a:off x="3865680" y="3260880"/>
              <a:ext cx="21812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432320" y="4076640"/>
              <a:ext cx="10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ovéPole 2"/>
          <p:cNvSpPr/>
          <p:nvPr/>
        </p:nvSpPr>
        <p:spPr>
          <a:xfrm>
            <a:off x="414036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davat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ovéPole 9"/>
          <p:cNvSpPr/>
          <p:nvPr/>
        </p:nvSpPr>
        <p:spPr>
          <a:xfrm rot="3420000">
            <a:off x="5272200" y="4093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TextovéPole 10" descr=""/>
          <p:cNvPicPr/>
          <p:nvPr/>
        </p:nvPicPr>
        <p:blipFill>
          <a:blip r:embed="rId3"/>
          <a:stretch/>
        </p:blipFill>
        <p:spPr>
          <a:xfrm>
            <a:off x="3413160" y="2889360"/>
            <a:ext cx="124452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96464"/>
                </a:solidFill>
                <a:latin typeface="Franklin Gothic Book"/>
              </a:rPr>
              <a:t>Komunitní plánování sociálních služeb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Zástupný symbol pro datum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B146-4CD5-405D-9113-34B5BC65C68A}" type="datetime">
              <a:rPr b="0" lang="cs-CZ" sz="1400" spc="-1" strike="noStrike">
                <a:solidFill>
                  <a:srgbClr val="696464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Zástupný symbol pro číslo snímku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0FA-9E25-4CC4-9A05-863631C7120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Zadava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Zodpovědnost za zajištění sociálních služeb, které odpovídají místním potřebá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Poskytovate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oskytovatelé služby provozují, vytvářejí plány či projekty na zachování a rozšiřování svých zařízení, pracovních míst a služeb, které poskytují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Perpetua"/>
              </a:rPr>
              <a:t>Uživate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19040" indent="-419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Uživatelé sociálních služeb jsou lidé v nepříznivé sociální situaci, kterým jsou služby určen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Picture 5" descr="Obrázek1"/>
          <p:cNvPicPr/>
          <p:nvPr/>
        </p:nvPicPr>
        <p:blipFill>
          <a:blip r:embed="rId1"/>
          <a:stretch/>
        </p:blipFill>
        <p:spPr>
          <a:xfrm>
            <a:off x="6877080" y="5950080"/>
            <a:ext cx="1946160" cy="57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7:16:54Z</dcterms:created>
  <dc:creator>Dana Diváková</dc:creator>
  <dc:description/>
  <dc:language>en-US</dc:language>
  <cp:lastModifiedBy>Dana Diváková</cp:lastModifiedBy>
  <dcterms:modified xsi:type="dcterms:W3CDTF">2016-09-29T04:19:47Z</dcterms:modified>
  <cp:revision>32</cp:revision>
  <dc:subject/>
  <dc:title>Projektové řízení</dc:title>
</cp:coreProperties>
</file>